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079280" y="3542760"/>
            <a:ext cx="736596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53520" y="88884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07928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853520" y="3542760"/>
            <a:ext cx="359424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6976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60600" y="88884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07928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56976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60600" y="3542760"/>
            <a:ext cx="2371680" cy="2423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5000"/>
          </a:bodyPr>
          <a:p>
            <a:pPr marL="545760" indent="-340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871560" indent="-34092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2" marL="1197000" indent="-340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3" marL="1535040" indent="-340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4" marL="1860840" indent="-34092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5" marL="1860840" indent="-34092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6" marL="1860840" indent="-340920">
              <a:spcBef>
                <a:spcPts val="35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9280" y="177480"/>
            <a:ext cx="7365960" cy="1663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079280" y="1917360"/>
            <a:ext cx="736596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55480" indent="-33948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1" marL="898560" indent="-33984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2" marL="1241280" indent="-33948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3" marL="1596960" indent="-33948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4" marL="1940040" indent="-33984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5" marL="1940040" indent="-339840">
              <a:spcBef>
                <a:spcPts val="24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6" marL="1940040" indent="-339840">
              <a:spcBef>
                <a:spcPts val="24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280" y="177480"/>
            <a:ext cx="7365960" cy="1663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5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079640" y="1917360"/>
            <a:ext cx="354312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2000"/>
          </a:bodyPr>
          <a:p>
            <a:pPr marL="455400" indent="-27828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1" marL="736560" indent="-27864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2" marL="1017720" indent="-27828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3" marL="1309320" indent="-27828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4" marL="1590480" indent="-27864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5" marL="1590480" indent="-278640">
              <a:spcBef>
                <a:spcPts val="24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6" marL="1590480" indent="-278640">
              <a:spcBef>
                <a:spcPts val="24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9280" y="177480"/>
            <a:ext cx="7365960" cy="1663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5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651280" y="1917360"/>
            <a:ext cx="279396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4000"/>
          </a:bodyPr>
          <a:p>
            <a:pPr marL="410760" indent="-25092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1" marL="664920" indent="-25128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2" marL="918360" indent="-25092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3" marL="1181520" indent="-25092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4" marL="1435320" indent="-25128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5" marL="1435320" indent="-251280">
              <a:spcBef>
                <a:spcPts val="24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6" marL="1435320" indent="-251280">
              <a:spcBef>
                <a:spcPts val="24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280" y="177480"/>
            <a:ext cx="7365960" cy="1663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1079280" y="1917360"/>
            <a:ext cx="736596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5000"/>
          </a:bodyPr>
          <a:p>
            <a:pPr marL="545760" indent="-34056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1" marL="871560" indent="-34092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2" marL="1197000" indent="-34056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3" marL="1535040" indent="-34056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4" marL="1860840" indent="-34092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5" marL="1860840" indent="-340920">
              <a:spcBef>
                <a:spcPts val="24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lvl="6" marL="1860840" indent="-340920">
              <a:spcBef>
                <a:spcPts val="24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280" y="177480"/>
            <a:ext cx="7365960" cy="1663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8840" y="4597200"/>
            <a:ext cx="7366320" cy="15620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5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8840" y="1562040"/>
            <a:ext cx="7366320" cy="18288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6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88840" y="3492000"/>
            <a:ext cx="7366320" cy="8766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38160" rIns="38160" tIns="38160" bIns="38160" anchor="t">
            <a:normAutofit fontScale="27000"/>
          </a:bodyPr>
          <a:p>
            <a:pPr marL="92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1" marL="92520" indent="-92520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2" marL="92520" indent="-92520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3" marL="92520" indent="-92520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4" marL="92520" indent="-92520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5" marL="92520" indent="-92520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6" marL="92520" indent="-92520" algn="ctr">
              <a:spcBef>
                <a:spcPts val="499"/>
              </a:spcBef>
              <a:buClr>
                <a:srgbClr val="2f2b20"/>
              </a:buClr>
              <a:buFont typeface="American Typewrite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6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2b20"/>
                </a:solidFill>
                <a:latin typeface="American Typewriter"/>
              </a:rPr>
              <a:t>Click to edit the title text format</a:t>
            </a:r>
            <a:endParaRPr b="0" lang="en-US" sz="5400" spc="-1" strike="noStrike">
              <a:solidFill>
                <a:srgbClr val="2f2b20"/>
              </a:solidFill>
              <a:latin typeface="American Typewriter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d9d7bb">
                <a:alpha val="80000"/>
              </a:srgbClr>
            </a:outerShdw>
          </a:effectLst>
        </p:spPr>
        <p:txBody>
          <a:bodyPr lIns="38160" rIns="38160" tIns="38160" bIns="38160"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Click to edit the outline text format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1" marL="277560" indent="-277560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Second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2" marL="277560" indent="-277560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Third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3" marL="277560" indent="-277560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Fourth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4" marL="277560" indent="-277560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Fifth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5" marL="277560" indent="-277560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Sixth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  <a:p>
            <a:pPr lvl="6" marL="277560" indent="-277560" algn="ctr">
              <a:lnSpc>
                <a:spcPct val="80000"/>
              </a:lnSpc>
              <a:spcBef>
                <a:spcPts val="499"/>
              </a:spcBef>
              <a:buClr>
                <a:srgbClr val="2f2b20"/>
              </a:buClr>
              <a:buFont typeface="American Typewrite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American Typewriter"/>
              </a:rPr>
              <a:t>Seventh Outline Level</a:t>
            </a:r>
            <a:endParaRPr b="0" lang="en-US" sz="2400" spc="-1" strike="noStrike">
              <a:solidFill>
                <a:srgbClr val="2f2b20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79280" y="177480"/>
            <a:ext cx="7365960" cy="1663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b4e2d"/>
                </a:solidFill>
                <a:latin typeface="American Typewriter"/>
              </a:rPr>
              <a:t>Click to edit the title text format</a:t>
            </a:r>
            <a:endParaRPr b="0" lang="en-US" sz="50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079640" y="1917360"/>
            <a:ext cx="3543120" cy="424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2000"/>
          </a:bodyPr>
          <a:p>
            <a:pPr marL="455400" indent="-27828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Click to edit the outline text format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1" marL="736560" indent="-27864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econd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2" marL="1017720" indent="-27828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Third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3" marL="1309320" indent="-27828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4" marL="1590480" indent="-278640">
              <a:spcBef>
                <a:spcPts val="24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5" marL="1590480" indent="-278640">
              <a:spcBef>
                <a:spcPts val="24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  <a:p>
            <a:pPr lvl="6" marL="1590480" indent="-278640">
              <a:spcBef>
                <a:spcPts val="2401"/>
              </a:spcBef>
              <a:buClr>
                <a:srgbClr val="5b4d2d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6216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4e2d"/>
                </a:solidFill>
                <a:latin typeface="American Typewriter"/>
              </a:rPr>
              <a:t>TOC</a:t>
            </a:r>
            <a:r>
              <a:rPr b="0" lang="en-US" sz="5400" spc="-1" strike="noStrike">
                <a:solidFill>
                  <a:srgbClr val="5b4e2d"/>
                </a:solidFill>
                <a:latin typeface="American Typewriter"/>
              </a:rPr>
              <a:t>	</a:t>
            </a:r>
            <a:endParaRPr b="0" lang="en-US" sz="5400" spc="-1" strike="noStrike">
              <a:solidFill>
                <a:srgbClr val="5b4e2d"/>
              </a:solidFill>
              <a:latin typeface="American Typewriter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079280" y="888840"/>
            <a:ext cx="736596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574560" indent="-358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Pg 7: Ice Age Scene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  <a:p>
            <a:pPr marL="574560" indent="-358560">
              <a:spcBef>
                <a:spcPts val="3501"/>
              </a:spcBef>
              <a:buClr>
                <a:srgbClr val="806216"/>
              </a:buClr>
              <a:buSzPct val="69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6216"/>
                </a:solidFill>
                <a:latin typeface="Palatino"/>
              </a:rPr>
              <a:t>Pg 8: Lucy/Ice Age C-n</a:t>
            </a:r>
            <a:endParaRPr b="0" lang="en-US" sz="24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09480" y="12600"/>
            <a:ext cx="8344080" cy="68709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rmAutofit/>
          </a:bodyPr>
          <a:p>
            <a:pPr marL="382680" indent="-343080" algn="ctr"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cc"/>
                </a:solidFill>
                <a:latin typeface="Palatino"/>
              </a:rPr>
              <a:t>Lucy:</a:t>
            </a:r>
            <a:endParaRPr b="0" lang="en-US" sz="48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Palatino"/>
              </a:rPr>
              <a:t>Oldest human-like skeletal ever found</a:t>
            </a:r>
            <a:endParaRPr b="0" lang="en-US" sz="26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Palatino"/>
              </a:rPr>
              <a:t>3-4 Million Yrs old</a:t>
            </a:r>
            <a:endParaRPr b="0" lang="en-US" sz="26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6216"/>
                </a:solidFill>
                <a:latin typeface="Palatino"/>
              </a:rPr>
              <a:t>Found in </a:t>
            </a:r>
            <a:r>
              <a:rPr b="0" lang="en-US" sz="2600" spc="-1" strike="noStrike">
                <a:solidFill>
                  <a:srgbClr val="d90b00"/>
                </a:solidFill>
                <a:latin typeface="Palatino"/>
              </a:rPr>
              <a:t>Africa</a:t>
            </a:r>
            <a:endParaRPr b="0" lang="en-US" sz="26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6216"/>
                </a:solidFill>
                <a:latin typeface="Palatino"/>
              </a:rPr>
              <a:t>Discovery has been questioned lately over the species of the find</a:t>
            </a:r>
            <a:endParaRPr b="0" lang="en-US" sz="2600" spc="-1" strike="noStrike">
              <a:solidFill>
                <a:srgbClr val="806216"/>
              </a:solidFill>
              <a:latin typeface="Palatino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7916760" y="1841400"/>
            <a:ext cx="9399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558360" y="76320"/>
            <a:ext cx="8852040" cy="6705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rmAutofit/>
          </a:bodyPr>
          <a:p>
            <a:pPr marL="382680" indent="-343080" algn="ctr"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cc"/>
                </a:solidFill>
                <a:latin typeface="Palatino"/>
              </a:rPr>
              <a:t>Ice Ages</a:t>
            </a:r>
            <a:endParaRPr b="0" lang="en-US" sz="48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Palatino"/>
              </a:rPr>
              <a:t>3 or 4 in 1.7 million years</a:t>
            </a:r>
            <a:endParaRPr b="0" lang="en-US" sz="2600" spc="-1" strike="noStrike">
              <a:solidFill>
                <a:srgbClr val="806216"/>
              </a:solidFill>
              <a:latin typeface="Palatino"/>
            </a:endParaRPr>
          </a:p>
          <a:p>
            <a:pPr marL="382680"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Palatino"/>
              </a:rPr>
              <a:t>Ended 10,000 years ago </a:t>
            </a:r>
            <a:endParaRPr b="0" lang="en-US" sz="2600" spc="-1" strike="noStrike">
              <a:solidFill>
                <a:srgbClr val="806216"/>
              </a:solidFill>
              <a:latin typeface="Palatino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6348240" y="2070000"/>
            <a:ext cx="3162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0" y="279360"/>
            <a:ext cx="9144000" cy="65786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rmAutofit/>
          </a:bodyPr>
          <a:p>
            <a:pPr marL="3826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Palatino"/>
              </a:rPr>
              <a:t>Paleolithic Period</a:t>
            </a:r>
            <a:endParaRPr b="0" lang="en-US" sz="4000" spc="-1" strike="noStrike">
              <a:solidFill>
                <a:srgbClr val="806216"/>
              </a:solidFill>
              <a:latin typeface="Palatino"/>
            </a:endParaRPr>
          </a:p>
          <a:p>
            <a:pPr marL="382680" indent="0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Palatino"/>
              </a:rPr>
              <a:t>Human Begin to 10,000 BC--</a:t>
            </a:r>
            <a:r>
              <a:rPr b="0" lang="en-US" sz="4000" spc="-1" strike="noStrike">
                <a:solidFill>
                  <a:srgbClr val="d90b00"/>
                </a:solidFill>
                <a:latin typeface="Tahoma Bold"/>
                <a:ea typeface="Tahoma Bold"/>
              </a:rPr>
              <a:t>nomads</a:t>
            </a:r>
            <a:endParaRPr b="0" lang="en-US" sz="40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lnSpc>
                <a:spcPct val="10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ヒラギノ角ゴ ProN W3"/>
                <a:ea typeface="ヒラギノ角ゴ ProN W3"/>
              </a:rPr>
              <a:t> </a:t>
            </a:r>
            <a:r>
              <a:rPr b="0" lang="en-US" sz="4000" spc="-1" strike="noStrike">
                <a:solidFill>
                  <a:srgbClr val="d90b00"/>
                </a:solidFill>
                <a:latin typeface="Palatino"/>
              </a:rPr>
              <a:t>groups of 20 -30</a:t>
            </a:r>
            <a:r>
              <a:rPr b="0" lang="en-US" sz="2400" spc="-1" strike="noStrike">
                <a:solidFill>
                  <a:srgbClr val="d90b00"/>
                </a:solidFill>
                <a:latin typeface="Palatino"/>
              </a:rPr>
              <a:t> </a:t>
            </a:r>
            <a:r>
              <a:rPr b="0" lang="en-US" sz="4000" spc="-1" strike="noStrike">
                <a:solidFill>
                  <a:srgbClr val="d90b00"/>
                </a:solidFill>
                <a:latin typeface="Tahoma Bold"/>
                <a:ea typeface="Tahoma Bold"/>
              </a:rPr>
              <a:t>hunter - gatherers</a:t>
            </a:r>
            <a:endParaRPr b="0" lang="en-US" sz="4000" spc="-1" strike="noStrike">
              <a:solidFill>
                <a:srgbClr val="806216"/>
              </a:solidFill>
              <a:latin typeface="Palatino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1"/>
          <a:srcRect l="0" t="4908" r="5669" b="11708"/>
          <a:stretch/>
        </p:blipFill>
        <p:spPr>
          <a:xfrm>
            <a:off x="6377040" y="216000"/>
            <a:ext cx="231120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rmAutofit/>
          </a:bodyPr>
          <a:p>
            <a:pPr marL="382680" indent="-343080">
              <a:lnSpc>
                <a:spcPct val="9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cc"/>
                </a:solidFill>
                <a:latin typeface="Palatino"/>
              </a:rPr>
              <a:t>Paleolithic-Division of Labor</a:t>
            </a:r>
            <a:endParaRPr b="0" lang="en-US" sz="4000" spc="-1" strike="noStrike">
              <a:solidFill>
                <a:srgbClr val="806216"/>
              </a:solidFill>
              <a:latin typeface="Palatino"/>
            </a:endParaRPr>
          </a:p>
          <a:p>
            <a:pPr marL="38268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4000" spc="-1" strike="noStrike">
                <a:solidFill>
                  <a:srgbClr val="d90b00"/>
                </a:solidFill>
                <a:latin typeface="Palatino"/>
              </a:rPr>
              <a:t>men hunted</a:t>
            </a:r>
            <a:r>
              <a:rPr b="0" lang="en-US" sz="2400" spc="-1" strike="noStrike">
                <a:solidFill>
                  <a:srgbClr val="d90b00"/>
                </a:solidFill>
                <a:latin typeface="Palatino"/>
              </a:rPr>
              <a:t>-</a:t>
            </a:r>
            <a:r>
              <a:rPr b="0" lang="en-US" sz="4000" spc="-1" strike="noStrike">
                <a:solidFill>
                  <a:srgbClr val="d90b00"/>
                </a:solidFill>
                <a:latin typeface="Palatino"/>
              </a:rPr>
              <a:t>women gathered</a:t>
            </a:r>
            <a:endParaRPr b="0" lang="en-US" sz="40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lnSpc>
                <a:spcPct val="9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Palatino"/>
              </a:rPr>
              <a:t>Developed simple tools: spears &amp; </a:t>
            </a:r>
            <a:r>
              <a:rPr b="0" lang="en-US" sz="4000" spc="-1" strike="noStrike">
                <a:solidFill>
                  <a:srgbClr val="ffffff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Palatino"/>
              </a:rPr>
              <a:t>axes made from bone, wood, &amp;</a:t>
            </a:r>
            <a:r>
              <a:rPr b="0" lang="en-US" sz="4000" spc="-1" strike="noStrike">
                <a:solidFill>
                  <a:srgbClr val="ffffff"/>
                </a:solidFill>
                <a:latin typeface="ヒラギノ角ゴ ProN W3"/>
                <a:ea typeface="ヒラギノ角ゴ ProN W3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Palatino"/>
              </a:rPr>
              <a:t>stone</a:t>
            </a:r>
            <a:endParaRPr b="0" lang="en-US" sz="4000" spc="-1" strike="noStrike">
              <a:solidFill>
                <a:srgbClr val="806216"/>
              </a:solidFill>
              <a:latin typeface="Palatino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7031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0" y="114120"/>
            <a:ext cx="9144000" cy="72514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rmAutofit fontScale="91000"/>
          </a:bodyPr>
          <a:p>
            <a:pPr marL="34812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348120" indent="-312120">
              <a:lnSpc>
                <a:spcPct val="9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dcc"/>
                </a:solidFill>
                <a:latin typeface="Tahoma Bold"/>
                <a:ea typeface="Tahoma Bold"/>
              </a:rPr>
              <a:t>Neolithic: New Stone Age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348120" indent="-312120">
              <a:lnSpc>
                <a:spcPct val="9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ahoma Bold"/>
                <a:ea typeface="Tahoma Bold"/>
              </a:rPr>
              <a:t>9000 BC - 4500 BC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348120" indent="-312120">
              <a:lnSpc>
                <a:spcPct val="9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Tahoma Bold"/>
                <a:ea typeface="Tahoma Bold"/>
              </a:rPr>
              <a:t>first permanent settlements appear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348120" indent="-312120">
              <a:lnSpc>
                <a:spcPct val="9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 Bold"/>
                <a:ea typeface="Tahoma Bold"/>
              </a:rPr>
              <a:t>domestication of plants (notably wheat), animals (goats and sheep)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34812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348120" indent="-312120">
              <a:lnSpc>
                <a:spcPct val="9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 Bold"/>
                <a:ea typeface="Tahoma Bold"/>
              </a:rPr>
              <a:t>produced decorated pottery and figurines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34812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ヒラギノ角ゴ ProN W6"/>
                <a:ea typeface="ヒラギノ角ゴ ProN W6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 Bold"/>
                <a:ea typeface="Tahoma Bold"/>
              </a:rPr>
              <a:t>from clay may indicate they were a war-like people 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  <a:p>
            <a:pPr marL="34812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86cd4d"/>
                </a:solidFill>
                <a:latin typeface="Palatino"/>
              </a:rPr>
              <a:t> </a:t>
            </a:r>
            <a:endParaRPr b="0" lang="en-US" sz="28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343080" y="114120"/>
            <a:ext cx="8229600" cy="6832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rmAutofit/>
          </a:bodyPr>
          <a:p>
            <a:pPr marL="382680" indent="-343080">
              <a:lnSpc>
                <a:spcPct val="10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Tahoma"/>
                <a:ea typeface="Tahoma"/>
              </a:rPr>
              <a:t>Neolithic-New Technologies</a:t>
            </a:r>
            <a:endParaRPr b="0" lang="en-US" sz="44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lnSpc>
                <a:spcPct val="10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Tahoma Bold"/>
                <a:ea typeface="Tahoma Bold"/>
              </a:rPr>
              <a:t>Calendar</a:t>
            </a:r>
            <a:r>
              <a:rPr b="0" lang="en-US" sz="4000" spc="-1" strike="noStrike">
                <a:solidFill>
                  <a:srgbClr val="d90b00"/>
                </a:solidFill>
                <a:latin typeface="Palatino"/>
              </a:rPr>
              <a:t> for planting </a:t>
            </a:r>
            <a:endParaRPr b="0" lang="en-US" sz="40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lnSpc>
                <a:spcPct val="10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Tahoma Bold"/>
                <a:ea typeface="Tahoma Bold"/>
              </a:rPr>
              <a:t>metal</a:t>
            </a:r>
            <a:r>
              <a:rPr b="0" lang="en-US" sz="4000" spc="-1" strike="noStrike">
                <a:solidFill>
                  <a:srgbClr val="d90b00"/>
                </a:solidFill>
                <a:latin typeface="Palatino"/>
              </a:rPr>
              <a:t> </a:t>
            </a:r>
            <a:r>
              <a:rPr b="0" lang="en-US" sz="4000" spc="-1" strike="noStrike">
                <a:solidFill>
                  <a:srgbClr val="d90b00"/>
                </a:solidFill>
                <a:latin typeface="Tahoma Bold"/>
                <a:ea typeface="Tahoma Bold"/>
              </a:rPr>
              <a:t>tools</a:t>
            </a:r>
            <a:r>
              <a:rPr b="0" lang="en-US" sz="4000" spc="-1" strike="noStrike">
                <a:solidFill>
                  <a:srgbClr val="d90b00"/>
                </a:solidFill>
                <a:latin typeface="Palatino"/>
              </a:rPr>
              <a:t>:</a:t>
            </a:r>
            <a:r>
              <a:rPr b="0" lang="en-US" sz="4000" spc="-1" strike="noStrike">
                <a:solidFill>
                  <a:srgbClr val="d90b00"/>
                </a:solidFill>
                <a:latin typeface="Tahoma Bold"/>
                <a:ea typeface="Tahoma Bold"/>
              </a:rPr>
              <a:t>plows</a:t>
            </a:r>
            <a:r>
              <a:rPr b="0" lang="en-US" sz="4000" spc="-1" strike="noStrike">
                <a:solidFill>
                  <a:srgbClr val="d90b00"/>
                </a:solidFill>
                <a:latin typeface="Palatino"/>
              </a:rPr>
              <a:t> </a:t>
            </a:r>
            <a:endParaRPr b="0" lang="en-US" sz="40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lnSpc>
                <a:spcPct val="10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Tahoma Bold"/>
                <a:ea typeface="Tahoma Bold"/>
              </a:rPr>
              <a:t>Metal weapons</a:t>
            </a:r>
            <a:r>
              <a:rPr b="0" lang="en-US" sz="4000" spc="-1" strike="noStrike">
                <a:solidFill>
                  <a:srgbClr val="d90b00"/>
                </a:solidFill>
                <a:latin typeface="Palatino"/>
              </a:rPr>
              <a:t> </a:t>
            </a:r>
            <a:endParaRPr b="0" lang="en-US" sz="4000" spc="-1" strike="noStrike">
              <a:solidFill>
                <a:srgbClr val="806216"/>
              </a:solidFill>
              <a:latin typeface="Palatino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1"/>
          <a:stretch/>
        </p:blipFill>
        <p:spPr>
          <a:xfrm>
            <a:off x="7908840" y="1600200"/>
            <a:ext cx="10414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0" y="50400"/>
            <a:ext cx="8686800" cy="68072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rmAutofit/>
          </a:bodyPr>
          <a:p>
            <a:pPr marL="382680" indent="-343080" algn="ctr">
              <a:lnSpc>
                <a:spcPct val="100000"/>
              </a:lnSpc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dcc"/>
                </a:solidFill>
                <a:latin typeface="Tahoma"/>
                <a:ea typeface="Tahoma"/>
              </a:rPr>
              <a:t>Characteristics of Civilizations</a:t>
            </a:r>
            <a:endParaRPr b="0" lang="en-US" sz="36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Palatino"/>
              </a:rPr>
              <a:t>Cities                               -  Specialized jobs</a:t>
            </a:r>
            <a:endParaRPr b="0" lang="en-US" sz="26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Palatino"/>
              </a:rPr>
              <a:t>government                    -  Social Class Structure</a:t>
            </a:r>
            <a:endParaRPr b="0" lang="en-US" sz="2600" spc="-1" strike="noStrike">
              <a:solidFill>
                <a:srgbClr val="806216"/>
              </a:solidFill>
              <a:latin typeface="Palatino"/>
            </a:endParaRPr>
          </a:p>
          <a:p>
            <a:pPr marL="382680" indent="-343080">
              <a:spcBef>
                <a:spcPts val="35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Palatino"/>
              </a:rPr>
              <a:t>System of writing           -  Advanced Technology</a:t>
            </a:r>
            <a:endParaRPr b="0" lang="en-US" sz="2600" spc="-1" strike="noStrike">
              <a:solidFill>
                <a:srgbClr val="806216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198706402</dc:creator>
  <dc:description/>
  <cp:keywords/>
  <dc:language>en-US</dc:language>
  <cp:lastModifiedBy>TylerDaughtry</cp:lastModifiedBy>
  <dcterms:modified xsi:type="dcterms:W3CDTF">2013-09-20T15:47:29Z</dcterms:modified>
  <cp:revision>3</cp:revision>
  <dc:subject/>
  <dc:title>Gateway Review</dc:title>
</cp:coreProperties>
</file>